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1F9-6C3F-4FF9-8461-2C52290D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2C0-626F-4139-B3FA-BC4A66C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628-9CB4-43A3-AB36-D1BD16E6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6BA-629C-4F27-8F2B-7748E25E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149-4BD7-49E3-B8B0-7762314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646-4E3F-4407-8A4D-03D65775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19-84D7-4C95-9150-8F387A86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93F-F649-4C1E-808C-B858BBCB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831-5D9F-4381-8DA9-B09B4FDB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505-618F-4059-ACA3-4F7D8B2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DC9-FDA0-4147-9F26-A400C8A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89C-3D6E-456F-873F-0365A29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888-2C8A-4B3D-8174-CDD58CC08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Cj0431621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1" descr="MCj04316210000[1]"/>
          <p:cNvPicPr/>
          <p:nvPr/>
        </p:nvPicPr>
        <p:blipFill>
          <a:blip r:embed="rId3"/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7" name="Line 12"/>
          <p:cNvSpPr/>
          <p:nvPr/>
        </p:nvSpPr>
        <p:spPr>
          <a:xfrm>
            <a:off x="533520" y="1447920"/>
            <a:ext cx="807696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21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Shots/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Angles/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4" name="Picture 5" descr="CU1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ose Up Shot (CU)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ws a detail of the overall subject or 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the head or hands if it is a person). Close ups of characters are a good way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ngag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udience into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aracter emotion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s we get closer to the character, we begin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se the backgr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, therefore emphasizing the subject, rather than the backgro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8" name="Picture 5" descr="ECU1"/>
          <p:cNvPicPr/>
          <p:nvPr/>
        </p:nvPicPr>
        <p:blipFill>
          <a:blip r:embed="rId1"/>
          <a:stretch/>
        </p:blipFill>
        <p:spPr>
          <a:xfrm>
            <a:off x="762120" y="1676520"/>
            <a:ext cx="7467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Close Up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Extreme Close Up (ECU)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 small detail of the subject is framed, such as a part of a human face, a hand, or foo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nnatural clos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the subject is good at bringing the viewer into intimate relationship with the subjec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called a “tight close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ye Level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" y="1981080"/>
            <a:ext cx="236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at eye-level, the impression is neu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NorthGrant"/>
          <p:cNvPicPr/>
          <p:nvPr/>
        </p:nvPicPr>
        <p:blipFill>
          <a:blip r:embed="rId1"/>
          <a:stretch/>
        </p:blipFill>
        <p:spPr>
          <a:xfrm>
            <a:off x="2895480" y="1828800"/>
            <a:ext cx="5867640" cy="3544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971800" y="54864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y Grant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 by North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Hitchc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Reverse Angl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981080"/>
            <a:ext cx="8229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amera looks at the subject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 occasionally the camer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hows what the subject is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seein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is is also known as a point-of-view sho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when there are two characters. We cut back and forth between the two characters tal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Shot/Reverse Shot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(Reverse Angle Shot)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8" name="Picture 5" descr="2"/>
          <p:cNvPicPr/>
          <p:nvPr/>
        </p:nvPicPr>
        <p:blipFill>
          <a:blip r:embed="rId1"/>
          <a:stretch/>
        </p:blipFill>
        <p:spPr>
          <a:xfrm>
            <a:off x="380880" y="2071800"/>
            <a:ext cx="3962520" cy="297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4"/>
          <p:cNvPicPr/>
          <p:nvPr/>
        </p:nvPicPr>
        <p:blipFill>
          <a:blip r:embed="rId2"/>
          <a:stretch/>
        </p:blipFill>
        <p:spPr>
          <a:xfrm>
            <a:off x="4648320" y="205740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121932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257800" y="5257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 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an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: To pivot the camer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orizontall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ing the lens to the left (pan left) or to the right (pan righ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Unlike the trucking shot,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amera does </a:t>
            </a: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m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its position on the trip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an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9880" y="3581280"/>
            <a:ext cx="1676520" cy="15242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267080" y="3124080"/>
            <a:ext cx="762120" cy="457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352680" y="1981080"/>
            <a:ext cx="2438640" cy="6098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0384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8"/>
          <p:cNvSpPr/>
          <p:nvPr/>
        </p:nvSpPr>
        <p:spPr>
          <a:xfrm flipH="1">
            <a:off x="2437560" y="3352680"/>
            <a:ext cx="1600200" cy="1676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19"/>
          <p:cNvSpPr/>
          <p:nvPr/>
        </p:nvSpPr>
        <p:spPr>
          <a:xfrm>
            <a:off x="5257800" y="3352680"/>
            <a:ext cx="1905120" cy="1595520"/>
          </a:xfrm>
          <a:custGeom>
            <a:avLst/>
            <a:gdLst/>
            <a:ahLst/>
            <a:rect l="l" t="t" r="r" b="b"/>
            <a:pathLst>
              <a:path fill="none" w="21600" h="21547">
                <a:moveTo>
                  <a:pt x="1508" y="-1"/>
                </a:moveTo>
                <a:cubicBezTo>
                  <a:pt x="12824" y="791"/>
                  <a:pt x="21600" y="10202"/>
                  <a:pt x="21600" y="21547"/>
                </a:cubicBezTo>
              </a:path>
              <a:path stroke="0" w="21600" h="21547">
                <a:moveTo>
                  <a:pt x="1508" y="-1"/>
                </a:moveTo>
                <a:cubicBezTo>
                  <a:pt x="12824" y="791"/>
                  <a:pt x="21600" y="10202"/>
                  <a:pt x="21600" y="21547"/>
                </a:cubicBezTo>
                <a:lnTo>
                  <a:pt x="0" y="21547"/>
                </a:lnTo>
                <a:lnTo>
                  <a:pt x="1508" y="-1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83808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867280" y="2514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n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39625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r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ze of the subject in the fr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(How much of the person/subject we will see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il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LT: To pivot the camer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vertical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moving the lens up and dow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era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does </a:t>
            </a:r>
            <a:r>
              <a:rPr b="0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not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mo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rom its position on the tri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il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5334120" y="3505320"/>
            <a:ext cx="2438280" cy="6094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199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4479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295280" y="3276720"/>
            <a:ext cx="1828800" cy="9903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124080" y="3505320"/>
            <a:ext cx="762120" cy="5331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828800" y="4267080"/>
            <a:ext cx="762120" cy="1526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761760" y="4419720"/>
            <a:ext cx="144756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2209680" y="449568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2209680" y="4495680"/>
            <a:ext cx="1371600" cy="1676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8"/>
          <p:cNvSpPr/>
          <p:nvPr/>
        </p:nvSpPr>
        <p:spPr>
          <a:xfrm flipV="1" rot="12539400">
            <a:off x="2666880" y="2513880"/>
            <a:ext cx="873360" cy="990720"/>
          </a:xfrm>
          <a:custGeom>
            <a:avLst/>
            <a:gdLst/>
            <a:ahLst/>
            <a:rect l="l" t="t" r="r" b="b"/>
            <a:pathLst>
              <a:path fill="none" w="24366" h="21600">
                <a:moveTo>
                  <a:pt x="0" y="12587"/>
                </a:moveTo>
                <a:cubicBezTo>
                  <a:pt x="3522" y="4916"/>
                  <a:pt x="11189" y="0"/>
                  <a:pt x="19630" y="0"/>
                </a:cubicBezTo>
                <a:cubicBezTo>
                  <a:pt x="21223" y="0"/>
                  <a:pt x="22811" y="176"/>
                  <a:pt x="24366" y="525"/>
                </a:cubicBezTo>
              </a:path>
              <a:path stroke="0" w="24366" h="21600">
                <a:moveTo>
                  <a:pt x="0" y="12587"/>
                </a:moveTo>
                <a:cubicBezTo>
                  <a:pt x="3522" y="4916"/>
                  <a:pt x="11189" y="0"/>
                  <a:pt x="19630" y="0"/>
                </a:cubicBezTo>
                <a:cubicBezTo>
                  <a:pt x="21223" y="0"/>
                  <a:pt x="22811" y="176"/>
                  <a:pt x="24366" y="525"/>
                </a:cubicBezTo>
                <a:lnTo>
                  <a:pt x="19630" y="21600"/>
                </a:lnTo>
                <a:lnTo>
                  <a:pt x="0" y="12587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19"/>
          <p:cNvSpPr/>
          <p:nvPr/>
        </p:nvSpPr>
        <p:spPr>
          <a:xfrm>
            <a:off x="2514600" y="4343400"/>
            <a:ext cx="1066680" cy="1257480"/>
          </a:xfrm>
          <a:custGeom>
            <a:avLst/>
            <a:gdLst/>
            <a:ahLst/>
            <a:rect l="l" t="t" r="r" b="b"/>
            <a:pathLst>
              <a:path fill="none" w="21600" h="22251">
                <a:moveTo>
                  <a:pt x="20083" y="0"/>
                </a:moveTo>
                <a:cubicBezTo>
                  <a:pt x="21085" y="2531"/>
                  <a:pt x="21600" y="5228"/>
                  <a:pt x="21600" y="7951"/>
                </a:cubicBezTo>
                <a:cubicBezTo>
                  <a:pt x="21600" y="13217"/>
                  <a:pt x="19675" y="18303"/>
                  <a:pt x="16188" y="22250"/>
                </a:cubicBezTo>
              </a:path>
              <a:path stroke="0" w="21600" h="22251">
                <a:moveTo>
                  <a:pt x="20083" y="0"/>
                </a:moveTo>
                <a:cubicBezTo>
                  <a:pt x="21085" y="2531"/>
                  <a:pt x="21600" y="5228"/>
                  <a:pt x="21600" y="7951"/>
                </a:cubicBezTo>
                <a:cubicBezTo>
                  <a:pt x="21600" y="13217"/>
                  <a:pt x="19675" y="18303"/>
                  <a:pt x="16188" y="22250"/>
                </a:cubicBezTo>
                <a:lnTo>
                  <a:pt x="0" y="7951"/>
                </a:lnTo>
                <a:lnTo>
                  <a:pt x="20083" y="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373392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505320" y="2362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152388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/Truck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Y: To move the camera and its doll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oward the subject (dolly in) or away from the subject (dolly ou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CK: To move the camera and its dolly to the lef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truck left) or to the right (truck 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camera (and its tripod) is being 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/Truck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809880" y="3581280"/>
            <a:ext cx="1676520" cy="15242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267080" y="3124080"/>
            <a:ext cx="762120" cy="457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572000" y="5181480"/>
            <a:ext cx="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990720" y="3581280"/>
            <a:ext cx="2590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715000" y="3505320"/>
            <a:ext cx="2362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238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7150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3352680" y="1523880"/>
            <a:ext cx="2438640" cy="6098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9625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4648320" y="228564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133720" y="5486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y Out (or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2767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l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9625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ollyshot"/>
          <p:cNvPicPr/>
          <p:nvPr/>
        </p:nvPicPr>
        <p:blipFill>
          <a:blip r:embed="rId1"/>
          <a:stretch/>
        </p:blipFill>
        <p:spPr>
          <a:xfrm>
            <a:off x="3124080" y="380880"/>
            <a:ext cx="4105440" cy="6172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80880" y="205740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Camera is on a “Doll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ruck/Cran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3716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SET OF "AT THE PEAK OF THE HILL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truckingshot"/>
          <p:cNvPicPr/>
          <p:nvPr/>
        </p:nvPicPr>
        <p:blipFill>
          <a:blip r:embed="rId1"/>
          <a:stretch/>
        </p:blipFill>
        <p:spPr>
          <a:xfrm>
            <a:off x="990720" y="1447920"/>
            <a:ext cx="704196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asic Camera Angles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Dona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 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High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7" name="Picture 5" descr="psycho%20high%20angle"/>
          <p:cNvPicPr/>
          <p:nvPr/>
        </p:nvPicPr>
        <p:blipFill>
          <a:blip r:embed="rId1"/>
          <a:stretch/>
        </p:blipFill>
        <p:spPr>
          <a:xfrm>
            <a:off x="2590920" y="1523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80880" y="1523880"/>
            <a:ext cx="19814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mera is positioned above the subject, looking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the subject seem sm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w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600200"/>
            <a:ext cx="1981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mera is positioned below the subject, looking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the subject seem lar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1982310"/>
          <p:cNvPicPr/>
          <p:nvPr/>
        </p:nvPicPr>
        <p:blipFill>
          <a:blip r:embed="rId1"/>
          <a:stretch/>
        </p:blipFill>
        <p:spPr>
          <a:xfrm>
            <a:off x="2590920" y="1676520"/>
            <a:ext cx="565776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next few slides, name the shot, angle, or camera mov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9" name="Picture 5" descr="els4"/>
          <p:cNvPicPr/>
          <p:nvPr/>
        </p:nvPicPr>
        <p:blipFill>
          <a:blip r:embed="rId1"/>
          <a:stretch/>
        </p:blipFill>
        <p:spPr>
          <a:xfrm>
            <a:off x="990720" y="1752480"/>
            <a:ext cx="69721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8800" y="60199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Golden Compas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w Line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GC_3"/>
          <p:cNvPicPr/>
          <p:nvPr/>
        </p:nvPicPr>
        <p:blipFill>
          <a:blip r:embed="rId1"/>
          <a:stretch/>
        </p:blipFill>
        <p:spPr>
          <a:xfrm>
            <a:off x="1143000" y="1676520"/>
            <a:ext cx="3168720" cy="42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4495680" y="259092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0292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ptain J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2653_JackSparrow300"/>
          <p:cNvPicPr/>
          <p:nvPr/>
        </p:nvPicPr>
        <p:blipFill>
          <a:blip r:embed="rId1"/>
          <a:stretch/>
        </p:blipFill>
        <p:spPr>
          <a:xfrm>
            <a:off x="1143000" y="1600200"/>
            <a:ext cx="4610160" cy="461016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5943600" y="2971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828800" y="60199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icole Kidman, The Golden Compas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w Line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GC_2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895480" y="2666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28800" y="6172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ussell Crowe as Maximus, Glad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gladiator_10"/>
          <p:cNvPicPr/>
          <p:nvPr/>
        </p:nvPicPr>
        <p:blipFill>
          <a:blip r:embed="rId1"/>
          <a:stretch/>
        </p:blipFill>
        <p:spPr>
          <a:xfrm>
            <a:off x="1371600" y="1600200"/>
            <a:ext cx="6000840" cy="45007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59" name="Text Box 8"/>
          <p:cNvSpPr/>
          <p:nvPr/>
        </p:nvSpPr>
        <p:spPr>
          <a:xfrm>
            <a:off x="2743200" y="3352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57913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hnny Depp, Sleepy H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ollow8"/>
          <p:cNvPicPr/>
          <p:nvPr/>
        </p:nvPicPr>
        <p:blipFill>
          <a:blip r:embed="rId1"/>
          <a:stretch/>
        </p:blipFill>
        <p:spPr>
          <a:xfrm>
            <a:off x="1752480" y="1523880"/>
            <a:ext cx="5334120" cy="428004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1676520" y="30481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971800" y="6095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roy, Warner Bros.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trojanhorseyes"/>
          <p:cNvPicPr/>
          <p:nvPr/>
        </p:nvPicPr>
        <p:blipFill>
          <a:blip r:embed="rId1"/>
          <a:stretch/>
        </p:blipFill>
        <p:spPr>
          <a:xfrm>
            <a:off x="1295280" y="1752480"/>
            <a:ext cx="6343920" cy="4326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971800" y="6095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Golden Com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GC_4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23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1" name="Text Box 6"/>
          <p:cNvSpPr/>
          <p:nvPr/>
        </p:nvSpPr>
        <p:spPr>
          <a:xfrm>
            <a:off x="1905120" y="23623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w Ang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342900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ussell Cr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:10 to Yuma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cus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ussell_wade"/>
          <p:cNvPicPr/>
          <p:nvPr/>
        </p:nvPicPr>
        <p:blipFill>
          <a:blip r:embed="rId1"/>
          <a:stretch/>
        </p:blipFill>
        <p:spPr>
          <a:xfrm>
            <a:off x="3429000" y="1752480"/>
            <a:ext cx="3427560" cy="4724640"/>
          </a:xfrm>
          <a:prstGeom prst="rect">
            <a:avLst/>
          </a:prstGeom>
          <a:ln w="15840">
            <a:solidFill>
              <a:srgbClr val="ff9900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3276720" y="35053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amera Movement?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133720" y="6172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hn Ford directing The 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FordMV02"/>
          <p:cNvPicPr/>
          <p:nvPr/>
        </p:nvPicPr>
        <p:blipFill>
          <a:blip r:embed="rId1"/>
          <a:stretch/>
        </p:blipFill>
        <p:spPr>
          <a:xfrm>
            <a:off x="1600200" y="1676520"/>
            <a:ext cx="5589720" cy="424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Do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Name the Ang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971800" y="6095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r Window, Alfred Hitchc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rearwindow3"/>
          <p:cNvPicPr/>
          <p:nvPr/>
        </p:nvPicPr>
        <p:blipFill>
          <a:blip r:embed="rId1"/>
          <a:stretch/>
        </p:blipFill>
        <p:spPr>
          <a:xfrm>
            <a:off x="762120" y="1600200"/>
            <a:ext cx="749592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981080" y="2743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High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Extreme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914400" y="164988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reme Long Shot (ELS) is used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ortray a vast area from an apparently long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n ELS is used to impress the viewer with the immense scope of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the ELS makes it hard for the audience to connect with the characters emotionally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y your notes…you need to know the shots, movements and angles for your story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ill also be a quiz on this materi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ithin a wee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—I won’t tell you which day (it’s a surpris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3" name="Picture 5" descr="LS1"/>
          <p:cNvPicPr/>
          <p:nvPr/>
        </p:nvPicPr>
        <p:blipFill>
          <a:blip r:embed="rId1"/>
          <a:stretch/>
        </p:blipFill>
        <p:spPr>
          <a:xfrm>
            <a:off x="838080" y="1752480"/>
            <a:ext cx="7201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ng Shot (LS)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ows the entire area where the action takes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 whole subject is in fra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7" name="Picture 5" descr="MS1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vention of the Medium Shot (MS), is (when framing a person) approximately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alf of their body is in shot, (from waist up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re subtle performances and detailed actions can be seen. The Medium Shot is a good framing for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nvers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es between characters, especially if hand movements are part of the performan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edium Long Sho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LS can frame one or two people standing up, that is, their entir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johnny_depp_biography_5"/>
          <p:cNvPicPr/>
          <p:nvPr/>
        </p:nvPicPr>
        <p:blipFill>
          <a:blip r:embed="rId1"/>
          <a:stretch/>
        </p:blipFill>
        <p:spPr>
          <a:xfrm>
            <a:off x="4114800" y="1600200"/>
            <a:ext cx="3305160" cy="49816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3:44:09Z</dcterms:created>
  <dc:creator>Chris MacDonald</dc:creator>
  <dc:description/>
  <dc:language>en-US</dc:language>
  <cp:lastModifiedBy>Elizabeth Cousar</cp:lastModifiedBy>
  <dcterms:modified xsi:type="dcterms:W3CDTF">2015-04-13T15:07:17Z</dcterms:modified>
  <cp:revision>31</cp:revision>
  <dc:subject/>
  <dc:title>Camera Shots/ Camera Angles</dc:title>
</cp:coreProperties>
</file>